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804D-DD4E-4DE7-855C-46BCF2C64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4F5F-4B3E-4F21-B88C-9083EDE9C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B670-7F4B-4AC6-9D0E-C6DCD4715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FB60-01CA-4415-919F-1E3291EB0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A138-F9CA-447E-9299-BB5F6CF20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4E42-F2C9-44A3-98F9-ADCCF1194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687E-E139-484F-B3B3-ADDD7C9E1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08EA-2256-4F10-8AA5-5765C96D6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800E-F76A-40E1-B97F-CF27508E5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DCC4-E4A2-4036-92F0-EF1C8639A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7D13-7981-4242-B3BB-F8CC4CDF6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DC17-0443-4FB8-B463-268075AE5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DD36E-2BEA-429A-B011-B5D9CCE67D69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-12600"/>
            <a:ext cx="9144000" cy="1071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1000080" y="239760"/>
            <a:ext cx="6904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VOCABULARY FOR MODULE 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Ε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LEVE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0" descr="alphaomega.jpg"/>
          <p:cNvPicPr/>
          <p:nvPr/>
        </p:nvPicPr>
        <p:blipFill>
          <a:blip r:embed="rId2">
            <a:grayscl/>
          </a:blip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1:Vocabulary 1/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7"/>
          <p:cNvSpPr/>
          <p:nvPr/>
        </p:nvSpPr>
        <p:spPr>
          <a:xfrm>
            <a:off x="357120" y="1285920"/>
            <a:ext cx="728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erbs with 2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or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8"/>
          <p:cNvSpPr/>
          <p:nvPr/>
        </p:nvSpPr>
        <p:spPr>
          <a:xfrm>
            <a:off x="1357200" y="1857240"/>
            <a:ext cx="4643640" cy="44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ἁμαρτανω (4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ἀποθνῃσκω (111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γινομαι (669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αραγινομαι (37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ἐσθιω (158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εὑρισκω (17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καταλειπω (24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9"/>
          <p:cNvSpPr/>
          <p:nvPr/>
        </p:nvSpPr>
        <p:spPr>
          <a:xfrm>
            <a:off x="5143680" y="2028960"/>
            <a:ext cx="27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do wrong, s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0"/>
          <p:cNvSpPr/>
          <p:nvPr/>
        </p:nvSpPr>
        <p:spPr>
          <a:xfrm>
            <a:off x="5143680" y="2638440"/>
            <a:ext cx="27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d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1"/>
          <p:cNvSpPr/>
          <p:nvPr/>
        </p:nvSpPr>
        <p:spPr>
          <a:xfrm>
            <a:off x="5143680" y="3243240"/>
            <a:ext cx="27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become, happ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2"/>
          <p:cNvSpPr/>
          <p:nvPr/>
        </p:nvSpPr>
        <p:spPr>
          <a:xfrm>
            <a:off x="5143680" y="3871800"/>
            <a:ext cx="27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arrive, stand 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3"/>
          <p:cNvSpPr/>
          <p:nvPr/>
        </p:nvSpPr>
        <p:spPr>
          <a:xfrm>
            <a:off x="5143680" y="4486320"/>
            <a:ext cx="27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4"/>
          <p:cNvSpPr/>
          <p:nvPr/>
        </p:nvSpPr>
        <p:spPr>
          <a:xfrm>
            <a:off x="5143680" y="5100480"/>
            <a:ext cx="27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f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5"/>
          <p:cNvSpPr/>
          <p:nvPr/>
        </p:nvSpPr>
        <p:spPr>
          <a:xfrm>
            <a:off x="5143680" y="5743440"/>
            <a:ext cx="27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leave (behin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1:Vocabulary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/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"/>
          <p:cNvSpPr/>
          <p:nvPr/>
        </p:nvSpPr>
        <p:spPr>
          <a:xfrm>
            <a:off x="1357200" y="1260360"/>
            <a:ext cx="4643640" cy="50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μανθανω (2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ὁραω (454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ασχω (42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πινω (7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πιπτω (90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φερω (6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ροσφερω (47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φευγω (29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5143680" y="1432080"/>
            <a:ext cx="27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lea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4"/>
          <p:cNvSpPr/>
          <p:nvPr/>
        </p:nvSpPr>
        <p:spPr>
          <a:xfrm>
            <a:off x="5143680" y="2041560"/>
            <a:ext cx="27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s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5"/>
          <p:cNvSpPr/>
          <p:nvPr/>
        </p:nvSpPr>
        <p:spPr>
          <a:xfrm>
            <a:off x="5143680" y="2646360"/>
            <a:ext cx="27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suf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6"/>
          <p:cNvSpPr/>
          <p:nvPr/>
        </p:nvSpPr>
        <p:spPr>
          <a:xfrm>
            <a:off x="5143680" y="3274920"/>
            <a:ext cx="27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dri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7"/>
          <p:cNvSpPr/>
          <p:nvPr/>
        </p:nvSpPr>
        <p:spPr>
          <a:xfrm>
            <a:off x="5143680" y="3889440"/>
            <a:ext cx="27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fall (dow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8"/>
          <p:cNvSpPr/>
          <p:nvPr/>
        </p:nvSpPr>
        <p:spPr>
          <a:xfrm>
            <a:off x="5143680" y="4503600"/>
            <a:ext cx="27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bear, car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9"/>
          <p:cNvSpPr/>
          <p:nvPr/>
        </p:nvSpPr>
        <p:spPr>
          <a:xfrm>
            <a:off x="5143680" y="5146560"/>
            <a:ext cx="27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bring to, off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0"/>
          <p:cNvSpPr/>
          <p:nvPr/>
        </p:nvSpPr>
        <p:spPr>
          <a:xfrm>
            <a:off x="5143680" y="5743440"/>
            <a:ext cx="27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fl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1:Vocabulary 3/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2"/>
          <p:cNvSpPr/>
          <p:nvPr/>
        </p:nvSpPr>
        <p:spPr>
          <a:xfrm>
            <a:off x="357120" y="1285920"/>
            <a:ext cx="728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quid ver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3"/>
          <p:cNvSpPr/>
          <p:nvPr/>
        </p:nvSpPr>
        <p:spPr>
          <a:xfrm>
            <a:off x="1357200" y="1857240"/>
            <a:ext cx="4643640" cy="44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παγγελλω (4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αραγγελω +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at.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(32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αἰρω (101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ποκτεινω (74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ἀποστελλω (132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ἐγειρω (144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κρινω (114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4"/>
          <p:cNvSpPr/>
          <p:nvPr/>
        </p:nvSpPr>
        <p:spPr>
          <a:xfrm>
            <a:off x="5143680" y="2028960"/>
            <a:ext cx="27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report, annou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5"/>
          <p:cNvSpPr/>
          <p:nvPr/>
        </p:nvSpPr>
        <p:spPr>
          <a:xfrm>
            <a:off x="5143680" y="2638440"/>
            <a:ext cx="27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6"/>
          <p:cNvSpPr/>
          <p:nvPr/>
        </p:nvSpPr>
        <p:spPr>
          <a:xfrm>
            <a:off x="5143680" y="324324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take (away), lift 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7"/>
          <p:cNvSpPr/>
          <p:nvPr/>
        </p:nvSpPr>
        <p:spPr>
          <a:xfrm>
            <a:off x="5143680" y="3871800"/>
            <a:ext cx="27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k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8"/>
          <p:cNvSpPr/>
          <p:nvPr/>
        </p:nvSpPr>
        <p:spPr>
          <a:xfrm>
            <a:off x="5143680" y="4486320"/>
            <a:ext cx="27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send (ou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9"/>
          <p:cNvSpPr/>
          <p:nvPr/>
        </p:nvSpPr>
        <p:spPr>
          <a:xfrm>
            <a:off x="5143680" y="5100480"/>
            <a:ext cx="27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raise up, wa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0"/>
          <p:cNvSpPr/>
          <p:nvPr/>
        </p:nvSpPr>
        <p:spPr>
          <a:xfrm>
            <a:off x="5143680" y="5743440"/>
            <a:ext cx="27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judge, dec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1:Vocabulary 4/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2"/>
          <p:cNvSpPr/>
          <p:nvPr/>
        </p:nvSpPr>
        <p:spPr>
          <a:xfrm>
            <a:off x="1357200" y="1260360"/>
            <a:ext cx="4643640" cy="25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μενω (118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ὀφειλω (3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σπειρω (52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χαιρω (74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5143680" y="1432080"/>
            <a:ext cx="27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re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4"/>
          <p:cNvSpPr/>
          <p:nvPr/>
        </p:nvSpPr>
        <p:spPr>
          <a:xfrm>
            <a:off x="5143680" y="2041560"/>
            <a:ext cx="27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ow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5"/>
          <p:cNvSpPr/>
          <p:nvPr/>
        </p:nvSpPr>
        <p:spPr>
          <a:xfrm>
            <a:off x="5143680" y="2646360"/>
            <a:ext cx="27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s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6"/>
          <p:cNvSpPr/>
          <p:nvPr/>
        </p:nvSpPr>
        <p:spPr>
          <a:xfrm>
            <a:off x="5143680" y="3274920"/>
            <a:ext cx="27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rejo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9"/>
          <p:cNvSpPr/>
          <p:nvPr/>
        </p:nvSpPr>
        <p:spPr>
          <a:xfrm>
            <a:off x="5143680" y="5003640"/>
            <a:ext cx="27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go 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10"/>
          <p:cNvSpPr/>
          <p:nvPr/>
        </p:nvSpPr>
        <p:spPr>
          <a:xfrm>
            <a:off x="5143680" y="5600880"/>
            <a:ext cx="27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go d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500040" y="4110120"/>
            <a:ext cx="764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erbs with 2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orists with unusual end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1357200" y="4816440"/>
            <a:ext cx="2714760" cy="13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ἀναβαινω (82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καταβαινω (81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1:Vocabulary 5/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2"/>
          <p:cNvSpPr/>
          <p:nvPr/>
        </p:nvSpPr>
        <p:spPr>
          <a:xfrm>
            <a:off x="1357200" y="1741320"/>
            <a:ext cx="4643640" cy="19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γινωσκω (222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ναγινωσκω (32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ἐπιγινωσκω (44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3"/>
          <p:cNvSpPr/>
          <p:nvPr/>
        </p:nvSpPr>
        <p:spPr>
          <a:xfrm>
            <a:off x="5143680" y="1913040"/>
            <a:ext cx="27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kn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4"/>
          <p:cNvSpPr/>
          <p:nvPr/>
        </p:nvSpPr>
        <p:spPr>
          <a:xfrm>
            <a:off x="5143680" y="2523960"/>
            <a:ext cx="27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5"/>
          <p:cNvSpPr/>
          <p:nvPr/>
        </p:nvSpPr>
        <p:spPr>
          <a:xfrm>
            <a:off x="5143680" y="3127320"/>
            <a:ext cx="27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recogn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7"/>
          <p:cNvSpPr/>
          <p:nvPr/>
        </p:nvSpPr>
        <p:spPr>
          <a:xfrm>
            <a:off x="5143680" y="4782960"/>
            <a:ext cx="27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ok! Behol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9"/>
          <p:cNvSpPr/>
          <p:nvPr/>
        </p:nvSpPr>
        <p:spPr>
          <a:xfrm>
            <a:off x="500040" y="4125960"/>
            <a:ext cx="764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l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10"/>
          <p:cNvSpPr/>
          <p:nvPr/>
        </p:nvSpPr>
        <p:spPr>
          <a:xfrm>
            <a:off x="1357200" y="4626000"/>
            <a:ext cx="271476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ἰδου (200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4T23:36:26Z</dcterms:created>
  <dc:creator>Sarah</dc:creator>
  <dc:description/>
  <dc:language>en-US</dc:language>
  <cp:lastModifiedBy>Sarah</cp:lastModifiedBy>
  <dcterms:modified xsi:type="dcterms:W3CDTF">2009-07-09T16:24:34Z</dcterms:modified>
  <cp:revision>15</cp:revision>
  <dc:subject/>
  <dc:title>Slide 1</dc:title>
</cp:coreProperties>
</file>